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492-B437-43BD-85CB-7C4A7848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33F-4373-4BE0-BB82-99D0362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2AA-382A-44D8-9EC4-2CAE416E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E9E-A1FA-401B-A58D-BC574B66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02E-A4EE-49AE-A61E-C6B2B779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B88-207A-4CFE-9BCD-0F2279D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286-E973-4D6B-B999-2281183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002-FA11-4959-9C4F-7197841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6B4-B810-4D2D-AEE5-B16E64A6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68F-62C2-48F7-9260-FB7F18B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E62-3DE3-46B1-9D4F-3A8007E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EB3-06BC-4D6C-8E00-381C98D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427-B29A-4B43-A3F6-2FFCA76050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c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r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xxxxx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yyyyy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8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30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Democrac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plato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anchai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e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le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arolyn Williams</cp:lastModifiedBy>
  <dcterms:modified xsi:type="dcterms:W3CDTF">2011-05-24T01:03:50Z</dcterms:modified>
  <cp:revision>9</cp:revision>
  <dc:subject/>
  <dc:title>Password</dc:title>
</cp:coreProperties>
</file>